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4A4-9120-4693-A991-31E6B155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E08-7E5D-4E87-BB42-8E8CFD2A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4F3-6156-4E4A-A442-736270F7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7236-B449-4D55-A6E7-48BEF91A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F2A-9F83-48B1-B82D-F24E4B78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EED3-0B8E-4C60-9AFF-7A849F56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275-6D52-4252-B096-91A3F6A8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9EE-C05A-46EA-B406-7E165191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979-6782-441F-AAC7-9E8298A0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CBC-CAAD-4B0E-9B38-60F2E95F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7418-EB65-4A55-A3DE-B464E33F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0C4-2991-43CE-9935-6D3D7E1C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C067-EB37-4DE1-A2DA-E92A6B825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Volcano&amp;hl=en&amp;safe=active&amp;rls=com.microsoft:en-us:IE-SearchBox&amp;biw=1280&amp;bih=557&amp;tbm=isch&amp;tbnid=S9AbfutdU4npeM:&amp;imgrefurl=http://apod.nasa.gov/apod/ap100210.html&amp;docid=eis3p4qWiUdPXM&amp;imgurl=http://apod.nasa.gov/apod/image/1002/volcanolightning_rietze_big.jpg&amp;w=2808&amp;h=1872&amp;ei=DclPT4qtGsqDtgfH09DGDQ&amp;zoom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arth Scienc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lin Co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diment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gneo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morphi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 For Watch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’s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e Tect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reading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ure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iding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lcano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9:22:49Z</dcterms:created>
  <dc:creator>ccorde</dc:creator>
  <dc:description/>
  <dc:language>en-US</dc:language>
  <cp:lastModifiedBy>ccorde</cp:lastModifiedBy>
  <dcterms:modified xsi:type="dcterms:W3CDTF">2012-03-01T19:22:42Z</dcterms:modified>
  <cp:revision>3</cp:revision>
  <dc:subject/>
  <dc:title>Earth Science Project</dc:title>
</cp:coreProperties>
</file>